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961-0E06-42AB-92EC-45328CB0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9BF-DA00-431D-A39B-7B19FB9B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C5E-4878-413B-B154-CA5A71B7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948-956D-4B6E-947E-BA9F4403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885A-475E-4915-877D-CC2C1181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15C3-40DF-4675-866F-98965270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C39-C785-48D1-B4C7-A6C8C387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1407-0503-4965-9ED7-79B523F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E81-7AF6-4589-9824-092424CB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BE7C-58AC-4152-99A0-6B07D20F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92B6-520A-4A38-9912-57EB4FA0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9B8-34D7-4AC2-B6C6-E6C835B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FA0-84FC-41A0-A222-9DA3E7E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044E-7B38-4186-8BDE-6556F3B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E569-2FD9-42B4-9342-9096335C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ADF2-E495-4E91-8E11-23237D07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DE07-BBC3-430E-AA73-75840137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7E2-6B3A-4950-BB7B-4031F458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F7A-8FB5-4A30-A23C-4A169467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AB7-B4CA-4402-BF47-3017E4A0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241-B3D0-4B1F-B1CF-995021F8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662-F442-4B02-829E-45E0D37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F13-B4F1-4A1B-9E30-9C3EDE4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859-D4D5-4AEA-9C47-C9429A19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1E0-A83E-4A44-89A9-3A8694DE1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A98-D260-4183-B456-C5880DAB8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Final Project Present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apt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/Outside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DA For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Steps: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into 2 groups with equal number of final project groups in each (A/B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tables in a “circle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A  stays a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B moves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ces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A goes first with 3 minutes to share their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B listens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B comments on partner A’s project for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A listens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 between the 2 partners/groups for 2-3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roles so Partner B shares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opics to Discus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ESEN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/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-out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N Strategi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/C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ing/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ties for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00240" y="12193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LISTEN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nds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y address lenses/CE’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and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2:52:06Z</dcterms:created>
  <dc:creator>pmsd pmsd</dc:creator>
  <dc:description/>
  <dc:language>en-US</dc:language>
  <cp:lastModifiedBy>Jessica Jacobs</cp:lastModifiedBy>
  <dcterms:modified xsi:type="dcterms:W3CDTF">2009-08-11T23:44:13Z</dcterms:modified>
  <cp:revision>5</cp:revision>
  <dc:subject/>
  <dc:title>Final Project Presentations</dc:title>
</cp:coreProperties>
</file>